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SER.WAV" ContentType="audio/x-wav"/>
  <Override PartName="/ppt/media/CAMERA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14C-14A8-45E8-8AC1-CB69AB07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5C1-57EB-4E88-A34F-9B5945C0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39E-73DD-46B0-85D1-A8A59FF8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61B-F3F6-4F70-834E-76DE6836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5A6-B788-4477-98DB-175E659A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0F48-1276-4075-A695-63AA1B08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7076-52DC-408E-A91F-78799673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5773-4268-4F5C-A458-B437B779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7C5F-3619-40E3-A6E5-2617B63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798E-BC0A-40AF-B583-959673F9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B69-3EE6-4014-9E9C-D246D269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438-BA38-4FFA-8676-3F9FBAB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6CA-631A-44B2-8C36-FFFB6E9E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18E7-B6B0-495F-87DF-3A47E34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ADFA-BCF8-422C-ADB7-B787475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B617-688B-4B59-B990-8FE706F5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B2C4-FA60-4ADA-A56F-D99DCC53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3E5-3635-4D0E-A13E-5CCFB24F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FD1-9130-4D81-8E55-DAD14443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40B-1ECF-4C87-9B10-7C31CE4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FD9-700D-41D3-88F5-9D71634F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9E3-47EB-4D44-B320-C26E4935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BBA-E6B9-4677-A10B-DDEE292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D69-2028-4D4F-8881-BCF7C0F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138A-7C74-4B55-8B7E-CAB285019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A7F1-5596-4067-B83A-BB9E707C5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FACTORISATION</a:t>
            </a:r>
            <a:endParaRPr b="1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fference of Perfect Squares   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OP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ach of the following is an example of a perfect squar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umbers:   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1, 4, 9, 16, 49, 81, 121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ariables: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95480" y="4521240"/>
                <a:ext cx="5105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066680" y="1066680"/>
            <a:ext cx="7086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1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actorise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486400" y="762120"/>
                <a:ext cx="2438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81280"/>
                <a:ext cx="6212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809880" y="4343040"/>
            <a:ext cx="2133720" cy="609480"/>
            <a:chOff x="3809880" y="4343040"/>
            <a:chExt cx="2133720" cy="609480"/>
          </a:xfrm>
        </p:grpSpPr>
        <p:sp>
          <p:nvSpPr>
            <p:cNvPr id="145" name=""/>
            <p:cNvSpPr/>
            <p:nvPr/>
          </p:nvSpPr>
          <p:spPr>
            <a:xfrm flipV="1">
              <a:off x="3809880" y="4343040"/>
              <a:ext cx="609840" cy="60948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09880" y="4343040"/>
              <a:ext cx="2133720" cy="60948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14400" y="4952880"/>
            <a:ext cx="2971800" cy="11912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Note that the first term in each bracket is the sa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4120" y="4267080"/>
            <a:ext cx="1676160" cy="990720"/>
            <a:chOff x="5334120" y="4267080"/>
            <a:chExt cx="1676160" cy="990720"/>
          </a:xfrm>
        </p:grpSpPr>
        <p:sp>
          <p:nvSpPr>
            <p:cNvPr id="149" name=""/>
            <p:cNvSpPr/>
            <p:nvPr/>
          </p:nvSpPr>
          <p:spPr>
            <a:xfrm flipH="1" flipV="1">
              <a:off x="5334120" y="4267080"/>
              <a:ext cx="1295280" cy="99072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629400" y="4343400"/>
              <a:ext cx="380880" cy="9144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952880" y="3200400"/>
            <a:ext cx="1524240" cy="762120"/>
            <a:chOff x="4952880" y="3200400"/>
            <a:chExt cx="1524240" cy="762120"/>
          </a:xfrm>
        </p:grpSpPr>
        <p:sp>
          <p:nvSpPr>
            <p:cNvPr id="152" name=""/>
            <p:cNvSpPr/>
            <p:nvPr/>
          </p:nvSpPr>
          <p:spPr>
            <a:xfrm flipH="1">
              <a:off x="4952880" y="3200400"/>
              <a:ext cx="533520" cy="76212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3200400"/>
              <a:ext cx="990720" cy="60948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8480" y="2246400"/>
            <a:ext cx="2514600" cy="947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ne bracket ha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the other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86400" y="5257800"/>
            <a:ext cx="3429000" cy="1191240"/>
            <a:chOff x="5486400" y="5257800"/>
            <a:chExt cx="3429000" cy="1191240"/>
          </a:xfrm>
        </p:grpSpPr>
        <p:sp>
          <p:nvSpPr>
            <p:cNvPr id="156" name=""/>
            <p:cNvSpPr/>
            <p:nvPr/>
          </p:nvSpPr>
          <p:spPr>
            <a:xfrm>
              <a:off x="5486400" y="5257800"/>
              <a:ext cx="3429000" cy="1191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Note that the second term in each bracket is the same and it is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8001000" y="6019920"/>
                  <a:ext cx="53352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47920" y="3184560"/>
                <a:ext cx="6248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4120" y="619200"/>
                <a:ext cx="19047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09480" y="789120"/>
            <a:ext cx="45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2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actoris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276720"/>
            <a:ext cx="365760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2452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3147840"/>
                <a:ext cx="678168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85800" y="1066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3:  Factoris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181480" y="865080"/>
                <a:ext cx="16765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809880" y="3429000"/>
            <a:ext cx="419112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2560680"/>
                <a:ext cx="71406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5716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4 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Factorise  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276880" y="304920"/>
                <a:ext cx="21463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2971800" y="3352680"/>
            <a:ext cx="3352680" cy="990720"/>
            <a:chOff x="2971800" y="3352680"/>
            <a:chExt cx="3352680" cy="990720"/>
          </a:xfrm>
        </p:grpSpPr>
        <p:sp>
          <p:nvSpPr>
            <p:cNvPr id="173" name=""/>
            <p:cNvSpPr/>
            <p:nvPr/>
          </p:nvSpPr>
          <p:spPr>
            <a:xfrm flipV="1">
              <a:off x="2971800" y="3352680"/>
              <a:ext cx="1219320" cy="99072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971800" y="3352680"/>
              <a:ext cx="3352680" cy="990720"/>
            </a:xfrm>
            <a:prstGeom prst="line">
              <a:avLst/>
            </a:prstGeom>
            <a:ln w="63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362480"/>
            <a:ext cx="3429000" cy="1191240"/>
            <a:chOff x="5562720" y="4362480"/>
            <a:chExt cx="3429000" cy="1191240"/>
          </a:xfrm>
        </p:grpSpPr>
        <p:sp>
          <p:nvSpPr>
            <p:cNvPr id="176" name=""/>
            <p:cNvSpPr/>
            <p:nvPr/>
          </p:nvSpPr>
          <p:spPr>
            <a:xfrm>
              <a:off x="5562720" y="4362480"/>
              <a:ext cx="3429000" cy="1191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Note that the second term in each bracket is the same and it is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8142120" y="5124600"/>
                  <a:ext cx="40176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5638680" y="3276360"/>
            <a:ext cx="1905120" cy="1067040"/>
            <a:chOff x="5638680" y="3276360"/>
            <a:chExt cx="1905120" cy="1067040"/>
          </a:xfrm>
        </p:grpSpPr>
        <p:sp>
          <p:nvSpPr>
            <p:cNvPr id="179" name=""/>
            <p:cNvSpPr/>
            <p:nvPr/>
          </p:nvSpPr>
          <p:spPr>
            <a:xfrm flipH="1" flipV="1">
              <a:off x="5638680" y="3276360"/>
              <a:ext cx="152640" cy="10666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91320" y="3352680"/>
              <a:ext cx="1752480" cy="99072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800600" y="1467000"/>
            <a:ext cx="2514600" cy="947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ne bracket ha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the othe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81480" y="2438280"/>
            <a:ext cx="2133720" cy="533520"/>
            <a:chOff x="5181480" y="2438280"/>
            <a:chExt cx="2133720" cy="533520"/>
          </a:xfrm>
        </p:grpSpPr>
        <p:sp>
          <p:nvSpPr>
            <p:cNvPr id="183" name=""/>
            <p:cNvSpPr/>
            <p:nvPr/>
          </p:nvSpPr>
          <p:spPr>
            <a:xfrm flipH="1">
              <a:off x="5181480" y="2438280"/>
              <a:ext cx="457200" cy="53352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8680" y="2438280"/>
              <a:ext cx="1676520" cy="457200"/>
            </a:xfrm>
            <a:prstGeom prst="line">
              <a:avLst/>
            </a:prstGeom>
            <a:ln w="63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143000" y="4365720"/>
            <a:ext cx="3276720" cy="1191240"/>
            <a:chOff x="1143000" y="4365720"/>
            <a:chExt cx="3276720" cy="1191240"/>
          </a:xfrm>
        </p:grpSpPr>
        <p:sp>
          <p:nvSpPr>
            <p:cNvPr id="186" name=""/>
            <p:cNvSpPr/>
            <p:nvPr/>
          </p:nvSpPr>
          <p:spPr>
            <a:xfrm>
              <a:off x="1143000" y="4365720"/>
              <a:ext cx="3276720" cy="119124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Note that the first term in each bracket is the same and is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2971800" y="5105520"/>
                  <a:ext cx="68904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63248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38080" y="2971800"/>
                <a:ext cx="76201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762120" y="944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Example 5: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Factoris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743040"/>
                <a:ext cx="27687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191120" y="3048120"/>
            <a:ext cx="4343400" cy="9144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1111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mplete Set B questions on the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We wish to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ank</a:t>
            </a: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 our supporters: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52560" y="3043080"/>
            <a:ext cx="3638880" cy="7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ommon Factor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he first thing to check when factorising is </a:t>
            </a: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common factor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ample 1: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actorise  3a + 12b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52680" y="838080"/>
            <a:ext cx="198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99"/>
                </a:solidFill>
                <a:latin typeface="Times New Roman"/>
              </a:rPr>
              <a:t>3a + 12b</a:t>
            </a:r>
            <a:endParaRPr b="0" lang="en-US" sz="3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13372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Look at the numbers.  What is the highest number that divides evenly into both 3 and 12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1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2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43117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e there any variables common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43640" y="50594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is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3505320"/>
            <a:ext cx="2057400" cy="6858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5029200"/>
            <a:ext cx="281952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685800"/>
            <a:ext cx="65534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w that we have established that 3 is the highest common factor (HCF), we put this outside the bracket,  s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3a + 12b  =  3(    +      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81280" y="3428640"/>
            <a:ext cx="1752480" cy="2422080"/>
            <a:chOff x="3581280" y="3428640"/>
            <a:chExt cx="1752480" cy="2422080"/>
          </a:xfrm>
        </p:grpSpPr>
        <p:sp>
          <p:nvSpPr>
            <p:cNvPr id="100" name=""/>
            <p:cNvSpPr/>
            <p:nvPr/>
          </p:nvSpPr>
          <p:spPr>
            <a:xfrm flipV="1">
              <a:off x="5333760" y="3428640"/>
              <a:ext cx="0" cy="53028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3927960"/>
              <a:ext cx="1752480" cy="192276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3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3a 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 ?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143680" y="286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019920" y="3429000"/>
            <a:ext cx="1828440" cy="2469960"/>
            <a:chOff x="6019920" y="3429000"/>
            <a:chExt cx="1828440" cy="2469960"/>
          </a:xfrm>
        </p:grpSpPr>
        <p:sp>
          <p:nvSpPr>
            <p:cNvPr id="104" name=""/>
            <p:cNvSpPr/>
            <p:nvPr/>
          </p:nvSpPr>
          <p:spPr>
            <a:xfrm flipV="1">
              <a:off x="6149880" y="3429000"/>
              <a:ext cx="0" cy="54720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976200"/>
              <a:ext cx="1828440" cy="192276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3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12b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 ?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848200" y="2890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4b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819520"/>
            <a:ext cx="1371600" cy="6094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00200" y="838080"/>
            <a:ext cx="601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99"/>
                </a:solidFill>
                <a:latin typeface="Times New Roman"/>
              </a:rPr>
              <a:t>Example 2 :       14ab + 18ac</a:t>
            </a:r>
            <a:endParaRPr b="0" lang="en-US" sz="3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13372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Look at the numbers.  What is the highest number that divides into both 14 and 18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133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1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216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p 2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2195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re there any variables common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3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5043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es, 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029200"/>
            <a:ext cx="281952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505320"/>
            <a:ext cx="2209680" cy="6858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685800"/>
            <a:ext cx="6553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w that we have established that 2a is the highest common factor (HCF), we put this outside the bracket,  s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ab + 18ac  =  2a(      +      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733920" y="3273480"/>
            <a:ext cx="2133000" cy="2054520"/>
            <a:chOff x="3733920" y="3273480"/>
            <a:chExt cx="2133000" cy="2054520"/>
          </a:xfrm>
        </p:grpSpPr>
        <p:sp>
          <p:nvSpPr>
            <p:cNvPr id="119" name=""/>
            <p:cNvSpPr/>
            <p:nvPr/>
          </p:nvSpPr>
          <p:spPr>
            <a:xfrm flipV="1">
              <a:off x="5866920" y="3273480"/>
              <a:ext cx="0" cy="53064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3920" y="3771000"/>
              <a:ext cx="2133000" cy="155700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2a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14ab 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?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562720" y="28335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7b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29400" y="3298320"/>
            <a:ext cx="1980720" cy="2400120"/>
            <a:chOff x="6629400" y="3298320"/>
            <a:chExt cx="1980720" cy="2400120"/>
          </a:xfrm>
        </p:grpSpPr>
        <p:sp>
          <p:nvSpPr>
            <p:cNvPr id="123" name=""/>
            <p:cNvSpPr/>
            <p:nvPr/>
          </p:nvSpPr>
          <p:spPr>
            <a:xfrm flipV="1">
              <a:off x="6770160" y="3298320"/>
              <a:ext cx="0" cy="474840"/>
            </a:xfrm>
            <a:prstGeom prst="line">
              <a:avLst/>
            </a:prstGeom>
            <a:ln w="63360">
              <a:solidFill>
                <a:srgbClr val="764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3775680"/>
              <a:ext cx="1980720" cy="1922760"/>
            </a:xfrm>
            <a:prstGeom prst="rect">
              <a:avLst/>
            </a:prstGeom>
            <a:noFill/>
            <a:ln w="9360">
              <a:solidFill>
                <a:srgbClr val="764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What do I need to multiply 2a by to get </a:t>
              </a:r>
              <a:r>
                <a:rPr b="1" lang="en-US" sz="2400" spc="-1" strike="noStrike">
                  <a:solidFill>
                    <a:srgbClr val="764600"/>
                  </a:solidFill>
                  <a:latin typeface="Arial"/>
                </a:rPr>
                <a:t>18ac</a:t>
              </a:r>
              <a:r>
                <a:rPr b="0" lang="en-US" sz="2400" spc="-1" strike="noStrike">
                  <a:solidFill>
                    <a:srgbClr val="764600"/>
                  </a:solidFill>
                  <a:latin typeface="Arial"/>
                </a:rPr>
                <a:t> 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477120" y="2833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9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838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actorise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ample 3 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ample 4 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9880" y="3033720"/>
                <a:ext cx="2971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809880" y="4176720"/>
                <a:ext cx="2343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5331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92080" y="1143000"/>
                <a:ext cx="62737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74800" y="3706920"/>
                <a:ext cx="58309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886200" y="4572000"/>
            <a:ext cx="3200400" cy="83808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057400"/>
            <a:ext cx="3276720" cy="914400"/>
          </a:xfrm>
          <a:prstGeom prst="rect">
            <a:avLst/>
          </a:prstGeom>
          <a:solidFill>
            <a:srgbClr val="e1f0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5397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Now try the questions in Set A on the workshee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2:01:38Z</dcterms:created>
  <dc:creator>Academic PowerPoint</dc:creator>
  <dc:description/>
  <dc:language>en-US</dc:language>
  <cp:lastModifiedBy>David Parnis</cp:lastModifiedBy>
  <dcterms:modified xsi:type="dcterms:W3CDTF">2004-11-08T05:20:11Z</dcterms:modified>
  <cp:revision>61</cp:revision>
  <dc:subject>Mathematics</dc:subject>
  <dc:title>Factorisation</dc:title>
</cp:coreProperties>
</file>